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8E5-454E-4D92-9B4A-0C6AA0A9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670-2500-4233-BB45-A2CF478F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1BD-64B8-4C72-A57F-D01AD89A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0D8-4386-4675-B6FF-3DF17108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C22-7C6F-4F89-A503-2519F783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087-7A93-46CC-83CF-2832A0ED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8CF-437C-42FC-80D0-115E5132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8A9-B811-439C-9628-2DB53242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02D-44DF-4E61-B6AD-5E8564A9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CA7-6285-4447-AC3F-6F79136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2AB-DCE5-4905-A9E3-C2FFA1C9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D65-9E77-4EA2-8BAC-4907532A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5A48-6AF2-4027-94F0-A900CC810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2:03Z</dcterms:modified>
  <cp:revision>5</cp:revision>
  <dc:subject/>
  <dc:title>Présentation PowerPoint</dc:title>
</cp:coreProperties>
</file>