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4F69-C57A-4F09-B880-43D173AA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C1EE-3F8D-4109-BEDF-F583F267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EF9E-4BDC-407E-AFA5-AA0057483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527C-CC61-430B-9F91-96A0D049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01EE-F54B-4FC1-9BA0-002B8D1B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885F-E933-4339-AF45-EC648C06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07C6-517F-491C-B136-34D07792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587D-39B6-4229-9562-BC7563F9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B7B2-1519-4753-AFD7-2502B136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4364-CECA-4DD3-8D86-520BBD06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0C6F-56FA-4B4F-A7A8-CF8DCA18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B321-F92D-4237-BD93-93B99358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88F4-9C0F-4AA5-AD89-1775338BC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13300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8-03T21:19:15Z</dcterms:modified>
  <cp:revision>24</cp:revision>
  <dc:subject/>
  <dc:title>Présentation PowerPoint</dc:title>
</cp:coreProperties>
</file>