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F14-CD34-4380-A564-BD20961D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BA3-40B1-4BC0-9055-5F29EC03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7E6-C99C-40DD-BE41-AA150D48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65A-B421-458B-910E-76EB84A7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3F4-20C1-4A6C-9F3D-E398232E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F30-05C1-4B64-8D94-EDC91C8C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842-64EC-455C-9EE7-DA5B6BB8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1C9-1AAB-4D9B-A54C-4E8F2A40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57D-9525-4D83-AF14-3729DE59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12A-5B9A-4010-ABED-322664CD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EBC-6320-4F24-B2A9-E6DB30DF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508-0233-415D-BF3F-90282879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4E1C-F91F-4136-A9DB-063972E93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9-25T14:20:40Z</dcterms:modified>
  <cp:revision>5</cp:revision>
  <dc:subject/>
  <dc:title>Présentation PowerPoint</dc:title>
</cp:coreProperties>
</file>