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903-C462-48A7-8567-EF861A7A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8C5-384C-493F-B6E7-83C6639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503-29D3-4723-AAD7-1E6D5F55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B1E-F9D3-4E97-B456-CBD2F8C4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011-3E7A-4175-B53A-82287E6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4CE-0F47-4FDA-9157-D073BCB4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0BB-654D-4A36-A3AD-7F7F656C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450-F15E-4135-991F-F0E3B993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57C-249B-44BA-B872-E0DDC391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247-06B2-45F6-8A79-31D488A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91A-58B9-4914-86DE-41A9C7B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712-19A0-4CD9-BE48-ACD46FB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853-222B-4607-AED8-AEBE26583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6529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49400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94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581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2933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93544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on to be 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77328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773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22147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214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04-24T17:36:33Z</dcterms:modified>
  <cp:revision>47</cp:revision>
  <dc:subject/>
  <dc:title>Présentation PowerPoint</dc:title>
</cp:coreProperties>
</file>