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C2DB-229E-4917-9DEA-90DEB1BDD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EDDE-C302-4A31-92C2-AFDBFD224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10E9-2986-449A-8AD2-538645712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3740-2F3D-4C44-9D9B-55FA8DDF8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75AB-7D84-4D75-AFCB-E4D5AE0B1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195A-D118-4E7C-BCEC-B235D413A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7D78-7755-4979-9E5A-385B78F58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6841-3A87-4723-888F-308FC3B98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963F-BA50-4621-994C-02D35D65E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1E94-A382-4265-82BB-E531D9E59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93C7-930E-4A1A-9331-1B37C304A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EC3B-4595-411C-8D67-D424C4250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F1452-3014-4322-BEAB-8C371DD324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90920" y="76320"/>
            <a:ext cx="3276360" cy="4792680"/>
          </a:xfrm>
          <a:custGeom>
            <a:avLst/>
            <a:gdLst>
              <a:gd name="textAreaLeft" fmla="*/ 159840 w 3276360"/>
              <a:gd name="textAreaRight" fmla="*/ 3116520 w 3276360"/>
              <a:gd name="textAreaTop" fmla="*/ 159840 h 4792680"/>
              <a:gd name="textAreaBottom" fmla="*/ 4632840 h 4792680"/>
            </a:gdLst>
            <a:ahLst/>
            <a:rect l="textAreaLeft" t="textAreaTop" r="textAreaRight" b="textAreaBottom"/>
            <a:pathLst>
              <a:path w="21600" h="31596">
                <a:moveTo>
                  <a:pt x="3600" y="0"/>
                </a:moveTo>
                <a:arcTo wR="3600" hR="3600" stAng="16200000" swAng="-5400000"/>
                <a:lnTo>
                  <a:pt x="0" y="27996"/>
                </a:lnTo>
                <a:arcTo wR="3600" hR="3600" stAng="10800000" swAng="-5400000"/>
                <a:lnTo>
                  <a:pt x="18000" y="315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320" y="76320"/>
            <a:ext cx="2209680" cy="4792680"/>
          </a:xfrm>
          <a:custGeom>
            <a:avLst/>
            <a:gdLst>
              <a:gd name="textAreaLeft" fmla="*/ 107640 w 2209680"/>
              <a:gd name="textAreaRight" fmla="*/ 2102040 w 2209680"/>
              <a:gd name="textAreaTop" fmla="*/ 107640 h 4792680"/>
              <a:gd name="textAreaBottom" fmla="*/ 4685040 h 4792680"/>
            </a:gdLst>
            <a:ahLst/>
            <a:rect l="textAreaLeft" t="textAreaTop" r="textAreaRight" b="textAreaBottom"/>
            <a:pathLst>
              <a:path w="21600" h="46845">
                <a:moveTo>
                  <a:pt x="3600" y="0"/>
                </a:moveTo>
                <a:arcTo wR="3600" hR="3600" stAng="16200000" swAng="-5400000"/>
                <a:lnTo>
                  <a:pt x="0" y="43245"/>
                </a:lnTo>
                <a:arcTo wR="3600" hR="3600" stAng="10800000" swAng="-5400000"/>
                <a:lnTo>
                  <a:pt x="18000" y="4684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800600" y="457200"/>
            <a:ext cx="990720" cy="282744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2827440"/>
              <a:gd name="textAreaBottom" fmla="*/ 2779200 h 2827440"/>
            </a:gdLst>
            <a:ahLst/>
            <a:rect l="textAreaLeft" t="textAreaTop" r="textAreaRight" b="textAreaBottom"/>
            <a:pathLst>
              <a:path w="21600" h="61630">
                <a:moveTo>
                  <a:pt x="3600" y="0"/>
                </a:moveTo>
                <a:arcTo wR="3600" hR="3600" stAng="16200000" swAng="-5400000"/>
                <a:lnTo>
                  <a:pt x="0" y="58030"/>
                </a:lnTo>
                <a:arcTo wR="3600" hR="3600" stAng="10800000" swAng="-5400000"/>
                <a:lnTo>
                  <a:pt x="18000" y="616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 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457200"/>
            <a:ext cx="990720" cy="282744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2827440"/>
              <a:gd name="textAreaBottom" fmla="*/ 2779200 h 2827440"/>
            </a:gdLst>
            <a:ahLst/>
            <a:rect l="textAreaLeft" t="textAreaTop" r="textAreaRight" b="textAreaBottom"/>
            <a:pathLst>
              <a:path w="21600" h="61630">
                <a:moveTo>
                  <a:pt x="3600" y="0"/>
                </a:moveTo>
                <a:arcTo wR="3600" hR="3600" stAng="16200000" swAng="-5400000"/>
                <a:lnTo>
                  <a:pt x="0" y="58030"/>
                </a:lnTo>
                <a:arcTo wR="3600" hR="3600" stAng="10800000" swAng="-5400000"/>
                <a:lnTo>
                  <a:pt x="18000" y="616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19320" y="457200"/>
            <a:ext cx="990360" cy="282744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2827440"/>
              <a:gd name="textAreaBottom" fmla="*/ 2779200 h 2827440"/>
            </a:gdLst>
            <a:ahLst/>
            <a:rect l="textAreaLeft" t="textAreaTop" r="textAreaRight" b="textAreaBottom"/>
            <a:pathLst>
              <a:path w="21600" h="61653">
                <a:moveTo>
                  <a:pt x="3600" y="0"/>
                </a:moveTo>
                <a:arcTo wR="3600" hR="3600" stAng="16200000" swAng="-5400000"/>
                <a:lnTo>
                  <a:pt x="0" y="58053"/>
                </a:lnTo>
                <a:arcTo wR="3600" hR="3600" stAng="10800000" swAng="-5400000"/>
                <a:lnTo>
                  <a:pt x="18000" y="616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 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666880" y="457200"/>
            <a:ext cx="990720" cy="282744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2827440"/>
              <a:gd name="textAreaBottom" fmla="*/ 2779200 h 2827440"/>
            </a:gdLst>
            <a:ahLst/>
            <a:rect l="textAreaLeft" t="textAreaTop" r="textAreaRight" b="textAreaBottom"/>
            <a:pathLst>
              <a:path w="21600" h="61630">
                <a:moveTo>
                  <a:pt x="3600" y="0"/>
                </a:moveTo>
                <a:arcTo wR="3600" hR="3600" stAng="16200000" swAng="-5400000"/>
                <a:lnTo>
                  <a:pt x="0" y="58030"/>
                </a:lnTo>
                <a:arcTo wR="3600" hR="3600" stAng="10800000" swAng="-5400000"/>
                <a:lnTo>
                  <a:pt x="18000" y="616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733920" y="457200"/>
            <a:ext cx="990360" cy="282744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2827440"/>
              <a:gd name="textAreaBottom" fmla="*/ 2779200 h 2827440"/>
            </a:gdLst>
            <a:ahLst/>
            <a:rect l="textAreaLeft" t="textAreaTop" r="textAreaRight" b="textAreaBottom"/>
            <a:pathLst>
              <a:path w="21600" h="61653">
                <a:moveTo>
                  <a:pt x="3600" y="0"/>
                </a:moveTo>
                <a:arcTo wR="3600" hR="3600" stAng="16200000" swAng="-5400000"/>
                <a:lnTo>
                  <a:pt x="0" y="58053"/>
                </a:lnTo>
                <a:arcTo wR="3600" hR="3600" stAng="10800000" swAng="-5400000"/>
                <a:lnTo>
                  <a:pt x="18000" y="616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 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990720"/>
            <a:ext cx="83808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295280" y="990720"/>
            <a:ext cx="83844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52280" y="3362400"/>
            <a:ext cx="2057400" cy="1434960"/>
          </a:xfrm>
          <a:prstGeom prst="roundRect">
            <a:avLst>
              <a:gd name="adj" fmla="val 16667"/>
            </a:avLst>
          </a:pr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90000" tIns="180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Oth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3666960"/>
            <a:ext cx="838080" cy="381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99"/>
              </a:gs>
              <a:gs pos="100000">
                <a:srgbClr val="c7fec7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g4j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95280" y="3666960"/>
            <a:ext cx="838440" cy="1057320"/>
          </a:xfrm>
          <a:custGeom>
            <a:avLst/>
            <a:gdLst>
              <a:gd name="textAreaLeft" fmla="*/ 40680 w 838440"/>
              <a:gd name="textAreaRight" fmla="*/ 797760 w 838440"/>
              <a:gd name="textAreaTop" fmla="*/ 40680 h 1057320"/>
              <a:gd name="textAreaBottom" fmla="*/ 1016640 h 1057320"/>
            </a:gdLst>
            <a:ahLst/>
            <a:rect l="textAreaLeft" t="textAreaTop" r="textAreaRight" b="textAreaBottom"/>
            <a:pathLst>
              <a:path w="21600" h="27236">
                <a:moveTo>
                  <a:pt x="3600" y="0"/>
                </a:moveTo>
                <a:arcTo wR="3600" hR="3600" stAng="16200000" swAng="-5400000"/>
                <a:lnTo>
                  <a:pt x="0" y="23636"/>
                </a:lnTo>
                <a:arcTo wR="3600" hR="3600" stAng="10800000" swAng="-5400000"/>
                <a:lnTo>
                  <a:pt x="18000" y="2723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99ff99"/>
              </a:gs>
              <a:gs pos="100000">
                <a:srgbClr val="c7fec7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HttpUni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a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httpunit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idy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xerces.ja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295280" y="2832120"/>
            <a:ext cx="83844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Your cactu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 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743200" y="990720"/>
            <a:ext cx="190512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876920" y="1447920"/>
            <a:ext cx="83808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Your cactu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 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990720"/>
            <a:ext cx="83808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Your 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under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666880" y="3355920"/>
            <a:ext cx="3124440" cy="1441440"/>
          </a:xfrm>
          <a:prstGeom prst="roundRect">
            <a:avLst>
              <a:gd name="adj" fmla="val 16667"/>
            </a:avLst>
          </a:pr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Oth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43200" y="3660840"/>
            <a:ext cx="83808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99"/>
              </a:gs>
              <a:gs pos="100000">
                <a:srgbClr val="c7fec7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g4j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9880" y="3660840"/>
            <a:ext cx="83844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590920" y="534348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Figure 1 : Classpath configu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52280" y="5191200"/>
            <a:ext cx="838440" cy="304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066680" y="519120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Manda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2280" y="5572080"/>
            <a:ext cx="838440" cy="30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99"/>
              </a:gs>
              <a:gs pos="100000">
                <a:srgbClr val="c7fec7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066680" y="5572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Op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8600" y="4124160"/>
            <a:ext cx="838080" cy="600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let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or j2ee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876920" y="3660840"/>
            <a:ext cx="83808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295280" y="1447920"/>
            <a:ext cx="83844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httpclient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85920" y="1895400"/>
            <a:ext cx="838080" cy="381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spectjrt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738520" y="1447920"/>
            <a:ext cx="190476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spectjrt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85920" y="2349360"/>
            <a:ext cx="838080" cy="381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omm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logging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738520" y="1916280"/>
            <a:ext cx="190476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ommons logging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590920" y="76320"/>
            <a:ext cx="3276360" cy="3733560"/>
          </a:xfrm>
          <a:custGeom>
            <a:avLst/>
            <a:gdLst>
              <a:gd name="textAreaLeft" fmla="*/ 159840 w 3276360"/>
              <a:gd name="textAreaRight" fmla="*/ 3116520 w 3276360"/>
              <a:gd name="textAreaTop" fmla="*/ 159840 h 3733560"/>
              <a:gd name="textAreaBottom" fmla="*/ 3573720 h 3733560"/>
            </a:gdLst>
            <a:ahLst/>
            <a:rect l="textAreaLeft" t="textAreaTop" r="textAreaRight" b="textAreaBottom"/>
            <a:pathLst>
              <a:path w="21600" h="24614">
                <a:moveTo>
                  <a:pt x="3600" y="0"/>
                </a:moveTo>
                <a:arcTo wR="3600" hR="3600" stAng="16200000" swAng="-5400000"/>
                <a:lnTo>
                  <a:pt x="0" y="21014"/>
                </a:lnTo>
                <a:arcTo wR="3600" hR="3600" stAng="10800000" swAng="-5400000"/>
                <a:lnTo>
                  <a:pt x="18000" y="2461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320" y="76320"/>
            <a:ext cx="2209680" cy="3733560"/>
          </a:xfrm>
          <a:custGeom>
            <a:avLst/>
            <a:gdLst>
              <a:gd name="textAreaLeft" fmla="*/ 107640 w 2209680"/>
              <a:gd name="textAreaRight" fmla="*/ 2102040 w 2209680"/>
              <a:gd name="textAreaTop" fmla="*/ 107640 h 3733560"/>
              <a:gd name="textAreaBottom" fmla="*/ 3625920 h 3733560"/>
            </a:gdLst>
            <a:ahLst/>
            <a:rect l="textAreaLeft" t="textAreaTop" r="textAreaRight" b="textAreaBottom"/>
            <a:pathLst>
              <a:path w="21600" h="36494">
                <a:moveTo>
                  <a:pt x="3600" y="0"/>
                </a:moveTo>
                <a:arcTo wR="3600" hR="3600" stAng="16200000" swAng="-5400000"/>
                <a:lnTo>
                  <a:pt x="0" y="32894"/>
                </a:lnTo>
                <a:arcTo wR="3600" hR="3600" stAng="10800000" swAng="-5400000"/>
                <a:lnTo>
                  <a:pt x="18000" y="364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800600" y="457200"/>
            <a:ext cx="990720" cy="190512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905120"/>
              <a:gd name="textAreaBottom" fmla="*/ 1856880 h 1905120"/>
            </a:gdLst>
            <a:ahLst/>
            <a:rect l="textAreaLeft" t="textAreaTop" r="textAreaRight" b="textAreaBottom"/>
            <a:pathLst>
              <a:path w="21600" h="41529">
                <a:moveTo>
                  <a:pt x="3600" y="0"/>
                </a:moveTo>
                <a:arcTo wR="3600" hR="3600" stAng="16200000" swAng="-5400000"/>
                <a:lnTo>
                  <a:pt x="0" y="37929"/>
                </a:lnTo>
                <a:arcTo wR="3600" hR="3600" stAng="10800000" swAng="-5400000"/>
                <a:lnTo>
                  <a:pt x="18000" y="415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 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52280" y="457200"/>
            <a:ext cx="990720" cy="190512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905120"/>
              <a:gd name="textAreaBottom" fmla="*/ 1856880 h 1905120"/>
            </a:gdLst>
            <a:ahLst/>
            <a:rect l="textAreaLeft" t="textAreaTop" r="textAreaRight" b="textAreaBottom"/>
            <a:pathLst>
              <a:path w="21600" h="41529">
                <a:moveTo>
                  <a:pt x="3600" y="0"/>
                </a:moveTo>
                <a:arcTo wR="3600" hR="3600" stAng="16200000" swAng="-5400000"/>
                <a:lnTo>
                  <a:pt x="0" y="37929"/>
                </a:lnTo>
                <a:arcTo wR="3600" hR="3600" stAng="10800000" swAng="-5400000"/>
                <a:lnTo>
                  <a:pt x="18000" y="415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219320" y="457200"/>
            <a:ext cx="990360" cy="190512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905120"/>
              <a:gd name="textAreaBottom" fmla="*/ 1856880 h 1905120"/>
            </a:gdLst>
            <a:ahLst/>
            <a:rect l="textAreaLeft" t="textAreaTop" r="textAreaRight" b="textAreaBottom"/>
            <a:pathLst>
              <a:path w="21600" h="41544">
                <a:moveTo>
                  <a:pt x="3600" y="0"/>
                </a:moveTo>
                <a:arcTo wR="3600" hR="3600" stAng="16200000" swAng="-5400000"/>
                <a:lnTo>
                  <a:pt x="0" y="37944"/>
                </a:lnTo>
                <a:arcTo wR="3600" hR="3600" stAng="10800000" swAng="-5400000"/>
                <a:lnTo>
                  <a:pt x="18000" y="415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 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666880" y="457200"/>
            <a:ext cx="990720" cy="190512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905120"/>
              <a:gd name="textAreaBottom" fmla="*/ 1856880 h 1905120"/>
            </a:gdLst>
            <a:ahLst/>
            <a:rect l="textAreaLeft" t="textAreaTop" r="textAreaRight" b="textAreaBottom"/>
            <a:pathLst>
              <a:path w="21600" h="41529">
                <a:moveTo>
                  <a:pt x="3600" y="0"/>
                </a:moveTo>
                <a:arcTo wR="3600" hR="3600" stAng="16200000" swAng="-5400000"/>
                <a:lnTo>
                  <a:pt x="0" y="37929"/>
                </a:lnTo>
                <a:arcTo wR="3600" hR="3600" stAng="10800000" swAng="-5400000"/>
                <a:lnTo>
                  <a:pt x="18000" y="415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733920" y="457200"/>
            <a:ext cx="990360" cy="190512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905120"/>
              <a:gd name="textAreaBottom" fmla="*/ 1856880 h 1905120"/>
            </a:gdLst>
            <a:ahLst/>
            <a:rect l="textAreaLeft" t="textAreaTop" r="textAreaRight" b="textAreaBottom"/>
            <a:pathLst>
              <a:path w="21600" h="41544">
                <a:moveTo>
                  <a:pt x="3600" y="0"/>
                </a:moveTo>
                <a:arcTo wR="3600" hR="3600" stAng="16200000" swAng="-5400000"/>
                <a:lnTo>
                  <a:pt x="0" y="37944"/>
                </a:lnTo>
                <a:arcTo wR="3600" hR="3600" stAng="10800000" swAng="-5400000"/>
                <a:lnTo>
                  <a:pt x="18000" y="415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 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52280" y="2438280"/>
            <a:ext cx="2057400" cy="1219320"/>
          </a:xfrm>
          <a:prstGeom prst="roundRect">
            <a:avLst>
              <a:gd name="adj" fmla="val 16667"/>
            </a:avLst>
          </a:pr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90000" tIns="180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Oth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666880" y="2438280"/>
            <a:ext cx="3124440" cy="1219320"/>
          </a:xfrm>
          <a:prstGeom prst="roundRect">
            <a:avLst>
              <a:gd name="adj" fmla="val 16667"/>
            </a:avLst>
          </a:pr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Oth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90920" y="426420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igure 2 : Configuration fi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52280" y="4111560"/>
            <a:ext cx="838440" cy="30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066680" y="41115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Manda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52280" y="4492800"/>
            <a:ext cx="838440" cy="304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99"/>
              </a:gs>
              <a:gs pos="100000">
                <a:srgbClr val="c7fec7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066680" y="449280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Op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295280" y="990720"/>
            <a:ext cx="83844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99"/>
              </a:gs>
              <a:gs pos="100000">
                <a:srgbClr val="c7fec7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743200"/>
            <a:ext cx="1905120" cy="30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99"/>
              </a:gs>
              <a:gs pos="100000">
                <a:srgbClr val="c7fec7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g4j.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743200" y="990720"/>
            <a:ext cx="83808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web.x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743200" y="2743200"/>
            <a:ext cx="2971800" cy="30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99"/>
              </a:gs>
              <a:gs pos="100000">
                <a:srgbClr val="c7fec7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g4j.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725560" y="1463760"/>
            <a:ext cx="83844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99"/>
              </a:gs>
              <a:gs pos="100000">
                <a:srgbClr val="c7fec7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5T16:11:12Z</dcterms:created>
  <dc:creator>Vincent Massol</dc:creator>
  <dc:description/>
  <dc:language>en-US</dc:language>
  <cp:lastModifiedBy>Vincent Massol</cp:lastModifiedBy>
  <dcterms:modified xsi:type="dcterms:W3CDTF">2002-07-22T15:39:09Z</dcterms:modified>
  <cp:revision>45</cp:revision>
  <dc:subject/>
  <dc:title>Présentation PowerPoint</dc:title>
</cp:coreProperties>
</file>